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4"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B43C-8595-46B6-99E0-2AE28EEFC57F}"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420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F50D-4361-42E4-B829-1B9BF493E6A7}"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5840" cy="3724200"/>
          </a:xfrm>
          <a:prstGeom prst="rect">
            <a:avLst/>
          </a:prstGeom>
          <a:ln w="0">
            <a:noFill/>
          </a:ln>
        </p:spPr>
      </p:sp>
      <p:sp>
        <p:nvSpPr>
          <p:cNvPr id="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E0C8-6382-4BA7-B133-3D963671594C}"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420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57E3-66C2-4E55-BF27-DE60849C4E3F}"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5840" cy="3724200"/>
          </a:xfrm>
          <a:prstGeom prst="rect">
            <a:avLst/>
          </a:prstGeom>
          <a:ln w="0">
            <a:noFill/>
          </a:ln>
        </p:spPr>
      </p:sp>
      <p:sp>
        <p:nvSpPr>
          <p:cNvPr id="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4885-602F-4CA5-AFE4-BE813EEEE610}"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5840" cy="3724200"/>
          </a:xfrm>
          <a:prstGeom prst="rect">
            <a:avLst/>
          </a:prstGeom>
          <a:ln w="0">
            <a:noFill/>
          </a:ln>
        </p:spPr>
      </p:sp>
      <p:sp>
        <p:nvSpPr>
          <p:cNvPr id="1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A055-99EC-456F-9C8A-873A5B09790A}"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5840" cy="3724200"/>
          </a:xfrm>
          <a:prstGeom prst="rect">
            <a:avLst/>
          </a:prstGeom>
          <a:ln w="0">
            <a:noFill/>
          </a:ln>
        </p:spPr>
      </p:sp>
      <p:sp>
        <p:nvSpPr>
          <p:cNvPr id="2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E92B-5A51-4297-BEA2-13F22044563D}"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5840" y="744480"/>
            <a:ext cx="4965840" cy="3724200"/>
          </a:xfrm>
          <a:prstGeom prst="rect">
            <a:avLst/>
          </a:prstGeom>
          <a:ln w="0">
            <a:noFill/>
          </a:ln>
        </p:spPr>
      </p:sp>
      <p:sp>
        <p:nvSpPr>
          <p:cNvPr id="2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7715-BDEF-4B10-8A2D-B751BD7DFCBF}"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5840" y="744480"/>
            <a:ext cx="4965840" cy="3724200"/>
          </a:xfrm>
          <a:prstGeom prst="rect">
            <a:avLst/>
          </a:prstGeom>
          <a:ln w="0">
            <a:noFill/>
          </a:ln>
        </p:spPr>
      </p:sp>
      <p:sp>
        <p:nvSpPr>
          <p:cNvPr id="2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4F32-743C-4620-87B3-223CCB3F4CB1}"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4480"/>
            <a:ext cx="4965840" cy="3724200"/>
          </a:xfrm>
          <a:prstGeom prst="rect">
            <a:avLst/>
          </a:prstGeom>
          <a:ln w="0">
            <a:noFill/>
          </a:ln>
        </p:spPr>
      </p:sp>
      <p:sp>
        <p:nvSpPr>
          <p:cNvPr id="2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DA56-0B98-404C-8E60-114949D58F93}"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5840" y="744480"/>
            <a:ext cx="4965840" cy="3724200"/>
          </a:xfrm>
          <a:prstGeom prst="rect">
            <a:avLst/>
          </a:prstGeom>
          <a:ln w="0">
            <a:noFill/>
          </a:ln>
        </p:spPr>
      </p:sp>
      <p:sp>
        <p:nvSpPr>
          <p:cNvPr id="2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31C2-C9EB-4C88-B7CD-37B117526201}"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5840" y="744480"/>
            <a:ext cx="4965840" cy="3724200"/>
          </a:xfrm>
          <a:prstGeom prst="rect">
            <a:avLst/>
          </a:prstGeom>
          <a:ln w="0">
            <a:noFill/>
          </a:ln>
        </p:spPr>
      </p:sp>
      <p:sp>
        <p:nvSpPr>
          <p:cNvPr id="2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C067-1AC0-4CE2-89AC-7ACC1D222F32}"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5840" y="744480"/>
            <a:ext cx="4965840" cy="3724200"/>
          </a:xfrm>
          <a:prstGeom prst="rect">
            <a:avLst/>
          </a:prstGeom>
          <a:ln w="0">
            <a:noFill/>
          </a:ln>
        </p:spPr>
      </p:sp>
      <p:sp>
        <p:nvSpPr>
          <p:cNvPr id="21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8A94-B6FF-4694-AC79-58B187E4A230}"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5840" y="744480"/>
            <a:ext cx="4965840" cy="3724200"/>
          </a:xfrm>
          <a:prstGeom prst="rect">
            <a:avLst/>
          </a:prstGeom>
          <a:ln w="0">
            <a:noFill/>
          </a:ln>
        </p:spPr>
      </p:sp>
      <p:sp>
        <p:nvSpPr>
          <p:cNvPr id="2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2018-E23D-4A65-9C99-6B015F70C9F7}"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B91D-6F8B-470E-BB8E-DB479C34460C}"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5840" y="744480"/>
            <a:ext cx="4965840" cy="3724200"/>
          </a:xfrm>
          <a:prstGeom prst="rect">
            <a:avLst/>
          </a:prstGeom>
          <a:ln w="0">
            <a:noFill/>
          </a:ln>
        </p:spPr>
      </p:sp>
      <p:sp>
        <p:nvSpPr>
          <p:cNvPr id="22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E28A-3789-45BB-BC53-1F798896C914}"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5840" y="744480"/>
            <a:ext cx="4965840" cy="3724200"/>
          </a:xfrm>
          <a:prstGeom prst="rect">
            <a:avLst/>
          </a:prstGeom>
          <a:ln w="0">
            <a:noFill/>
          </a:ln>
        </p:spPr>
      </p:sp>
      <p:sp>
        <p:nvSpPr>
          <p:cNvPr id="23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3819-AD52-4B4B-9DBA-51AE5109D8C4}"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5840" y="744480"/>
            <a:ext cx="4965840" cy="372420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3675-1884-421D-AA2A-20AB3546D7BD}"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F247-BE59-4D42-BB1D-3FF904713B4E}"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5840" y="744480"/>
            <a:ext cx="4965840" cy="372420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0343-F663-415E-8BB3-81D2C81A20C2}"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5840" y="744480"/>
            <a:ext cx="4965840" cy="3724200"/>
          </a:xfrm>
          <a:prstGeom prst="rect">
            <a:avLst/>
          </a:prstGeom>
          <a:ln w="0">
            <a:noFill/>
          </a:ln>
        </p:spPr>
      </p:sp>
      <p:sp>
        <p:nvSpPr>
          <p:cNvPr id="24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0DE-3BF3-4296-BCF3-AC5098529E63}"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5840" cy="3724200"/>
          </a:xfrm>
          <a:prstGeom prst="rect">
            <a:avLst/>
          </a:prstGeom>
          <a:ln w="0">
            <a:noFill/>
          </a:ln>
        </p:spPr>
      </p:sp>
      <p:sp>
        <p:nvSpPr>
          <p:cNvPr id="1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52FB-4D49-45CC-AC3F-5070788E5B7E}"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5840" y="744480"/>
            <a:ext cx="4965840" cy="3724200"/>
          </a:xfrm>
          <a:prstGeom prst="rect">
            <a:avLst/>
          </a:prstGeom>
          <a:ln w="0">
            <a:noFill/>
          </a:ln>
        </p:spPr>
      </p:sp>
      <p:sp>
        <p:nvSpPr>
          <p:cNvPr id="24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3814-0F7E-4B4B-BEFD-34436ABF60E2}"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2AF6-CB24-4356-848E-F31031D19EB8}"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5840" y="744480"/>
            <a:ext cx="4965840" cy="372420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FE60-B589-4185-BA2D-578BAC5C478F}"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5840" y="744480"/>
            <a:ext cx="4965840" cy="372420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5770-7A8F-4C17-9DCE-6062689D4135}"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5840" y="744480"/>
            <a:ext cx="4965840" cy="3724200"/>
          </a:xfrm>
          <a:prstGeom prst="rect">
            <a:avLst/>
          </a:prstGeom>
          <a:ln w="0">
            <a:noFill/>
          </a:ln>
        </p:spPr>
      </p:sp>
      <p:sp>
        <p:nvSpPr>
          <p:cNvPr id="2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75D0-70B0-4A50-BC28-B432C09A45E8}"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156B-F9AD-4D03-A810-0C2A9B18C21D}"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5840" y="744480"/>
            <a:ext cx="4965840" cy="3724200"/>
          </a:xfrm>
          <a:prstGeom prst="rect">
            <a:avLst/>
          </a:prstGeom>
          <a:ln w="0">
            <a:noFill/>
          </a:ln>
        </p:spPr>
      </p:sp>
      <p:sp>
        <p:nvSpPr>
          <p:cNvPr id="26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C420-3A16-4172-BEBF-A20B20C339CA}"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5840" y="744480"/>
            <a:ext cx="4965840" cy="3724200"/>
          </a:xfrm>
          <a:prstGeom prst="rect">
            <a:avLst/>
          </a:prstGeom>
          <a:ln w="0">
            <a:noFill/>
          </a:ln>
        </p:spPr>
      </p:sp>
      <p:sp>
        <p:nvSpPr>
          <p:cNvPr id="26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6A4F-181F-4F5E-AA19-91CE9E3FE251}"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5840" y="744480"/>
            <a:ext cx="4965840" cy="3724200"/>
          </a:xfrm>
          <a:prstGeom prst="rect">
            <a:avLst/>
          </a:prstGeom>
          <a:ln w="0">
            <a:noFill/>
          </a:ln>
        </p:spPr>
      </p:sp>
      <p:sp>
        <p:nvSpPr>
          <p:cNvPr id="27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137A-881E-4585-90F4-0E291B1D0012}"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5840" cy="3724200"/>
          </a:xfrm>
          <a:prstGeom prst="rect">
            <a:avLst/>
          </a:prstGeom>
          <a:ln w="0">
            <a:noFill/>
          </a:ln>
        </p:spPr>
      </p:sp>
      <p:sp>
        <p:nvSpPr>
          <p:cNvPr id="1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B2DC-E13C-4DF4-AB2E-84210FC36E4C}"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5840" cy="372420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C6BB-C610-452E-99C1-B4B05D071FD6}"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5840" cy="3724200"/>
          </a:xfrm>
          <a:prstGeom prst="rect">
            <a:avLst/>
          </a:prstGeom>
          <a:ln w="0">
            <a:noFill/>
          </a:ln>
        </p:spPr>
      </p:sp>
      <p:sp>
        <p:nvSpPr>
          <p:cNvPr id="1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3A8E-332E-4B86-9103-CF8047FF69DD}"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5840" cy="3724200"/>
          </a:xfrm>
          <a:prstGeom prst="rect">
            <a:avLst/>
          </a:prstGeom>
          <a:ln w="0">
            <a:noFill/>
          </a:ln>
        </p:spPr>
      </p:sp>
      <p:sp>
        <p:nvSpPr>
          <p:cNvPr id="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E630-40ED-4FEB-A917-464654012AB8}"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420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F422-C2F8-463C-9A43-3CA76CE8864C}"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5840" cy="3724200"/>
          </a:xfrm>
          <a:prstGeom prst="rect">
            <a:avLst/>
          </a:prstGeom>
          <a:ln w="0">
            <a:noFill/>
          </a:ln>
        </p:spPr>
      </p:sp>
      <p:sp>
        <p:nvSpPr>
          <p:cNvPr id="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Θέση αριθμού διαφάνειας 3"/>
          <p:cNvSpPr/>
          <p:nvPr/>
        </p:nvSpPr>
        <p:spPr>
          <a:xfrm>
            <a:off x="3851280" y="9429840"/>
            <a:ext cx="29448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B316-ECDB-42DA-9AAD-7D2F065298EC}" type="slidenum">
              <a:rPr b="0" lang="el-GR"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06722-C82C-4514-86AA-A1CD3337E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507EA-04FE-44E1-B3D3-1C2711CB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DD36-7F0A-418A-A495-50F5FDF49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3FEC2-B47B-45E9-936A-4C99BA6E0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07DC-E98A-41FE-9578-99C6CA13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E5CB-69BB-4971-B02B-79643DAD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77CE1-0206-4CA8-843D-855EF629A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ECA9D-E7FE-476E-A2A7-A13DC539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A159-6820-46B6-B883-5AB7FDF4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BEEA6-FB01-4AE1-845E-7D7F39F6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37F5-E801-4E66-B217-0583E542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59E1-574D-429E-BA6E-6696B389E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D9DE-D108-4EC7-B89C-F2C6B9B55EA4}" type="slidenum">
              <a:rPr b="0" lang="el-GR"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549000"/>
            <a:ext cx="8785080" cy="18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The impact of alternative potential concepts for the future EU-UK relationship on financial firms</a:t>
            </a:r>
            <a:br>
              <a:rPr sz="3200"/>
            </a:b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250560" y="2599920"/>
            <a:ext cx="8785080" cy="3708360"/>
          </a:xfrm>
          <a:prstGeom prst="rect">
            <a:avLst/>
          </a:prstGeom>
          <a:noFill/>
          <a:ln w="0">
            <a:noFill/>
          </a:ln>
        </p:spPr>
        <p:txBody>
          <a:bodyPr anchor="t">
            <a:noAutofit/>
          </a:bodyPr>
          <a:p>
            <a:pPr marL="60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ofessor Christos V. Gortsos</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aw School, National and Kapodistrian University of Athens </a:t>
            </a:r>
            <a:endParaRPr b="0" lang="en-US" sz="2600" spc="-1" strike="noStrike">
              <a:solidFill>
                <a:srgbClr val="000000"/>
              </a:solidFill>
              <a:latin typeface="Times New Roman"/>
            </a:endParaRPr>
          </a:p>
          <a:p>
            <a:pPr marL="6094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September 2018</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74"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vestment firms (con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also provides for access of investment firms to regulated markets by setting up branches or becoming remote members or having remote access to a regulated market, as well as for the access to central counterparties (</a:t>
            </a:r>
            <a:r>
              <a:rPr b="1" lang="en-US" sz="2200" spc="-1" strike="noStrike">
                <a:solidFill>
                  <a:srgbClr val="000000"/>
                </a:solidFill>
                <a:latin typeface="Times New Roman"/>
              </a:rPr>
              <a:t>CCPs</a:t>
            </a:r>
            <a:r>
              <a:rPr b="0" lang="en-US" sz="2200" spc="-1" strike="noStrike">
                <a:solidFill>
                  <a:srgbClr val="000000"/>
                </a:solidFill>
                <a:latin typeface="Times New Roman"/>
              </a:rPr>
              <a:t>) and to clearing and settlement systems (for the purpose of finalising or arranging the finalisation of transactions in financial instruments) and the right to designate a settlement system.</a:t>
            </a:r>
            <a:endParaRPr b="0" lang="en-US" sz="22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0" lang="en-US" sz="2200" spc="-1" strike="noStrike">
                <a:solidFill>
                  <a:srgbClr val="000000"/>
                </a:solidFill>
                <a:latin typeface="Times New Roman"/>
              </a:rPr>
              <a:t> On the other hand, in relation to third-country investment firms, the MiFID II, unlike the CRD IV, establishes two different regimes. In particular:</a:t>
            </a: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A222-4F59-4AD8-BACB-DAA49BB08E9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77"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vestment firms (cont.)</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principle, a credit institution or an investment firm having its head office in a third country may, at the discretion of national legislation in each Member State, be required to establish a branch in a Member State if it intends to provide investment services and/or perform investment activities in that Member State to retail or professional clients (as defined in Section II of Annex II) upon fulfilment of specific conditions.</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vertheless, if a retail or professional client established or situated in the EU initiates at its own exclusive initiative the provision of an investment service or the performance of an investment activity by a third-country firm, the above-mentioned requirement for authorisation by branching does not apply to the provision of that service or the performance of that activity by the third-country firm to that person.</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ED8B-76BD-4C90-BE26-B3EFDC14255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80"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vestment firms (con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a:t>
            </a:r>
            <a:r>
              <a:rPr b="0" lang="en-US" sz="2200" spc="-1" strike="noStrike">
                <a:solidFill>
                  <a:srgbClr val="000000"/>
                </a:solidFill>
                <a:latin typeface="Times New Roman"/>
              </a:rPr>
              <a:t> In addition, in accordance with the provisions of </a:t>
            </a:r>
            <a:r>
              <a:rPr b="1" lang="en-US" sz="2200" spc="-1" strike="noStrike">
                <a:solidFill>
                  <a:srgbClr val="000000"/>
                </a:solidFill>
                <a:latin typeface="Times New Roman"/>
              </a:rPr>
              <a:t>MiFIR</a:t>
            </a:r>
            <a:r>
              <a:rPr b="0" lang="en-US" sz="2200" spc="-1" strike="noStrike">
                <a:solidFill>
                  <a:srgbClr val="000000"/>
                </a:solidFill>
                <a:latin typeface="Times New Roman"/>
              </a:rPr>
              <a:t>, third-country investment firms may provide investment services and/or perform investment activities to eligible counterparties and to professional clients throughout the EU without the establishment of a branch, if they are registered in the ‘register of third-country firms’ kept by the </a:t>
            </a:r>
            <a:r>
              <a:rPr b="1" lang="en-GB" sz="2200" spc="-1" strike="noStrike">
                <a:solidFill>
                  <a:srgbClr val="000000"/>
                </a:solidFill>
                <a:latin typeface="Times New Roman"/>
              </a:rPr>
              <a:t>ESMA</a:t>
            </a:r>
            <a:r>
              <a:rPr b="0" lang="en-US" sz="2200" spc="-1" strike="noStrike">
                <a:solidFill>
                  <a:srgbClr val="000000"/>
                </a:solidFill>
                <a:latin typeface="Times New Roman"/>
              </a:rPr>
              <a:t> by way of an </a:t>
            </a:r>
            <a:r>
              <a:rPr b="1" lang="en-US" sz="2200" spc="-1" strike="noStrike">
                <a:solidFill>
                  <a:srgbClr val="000000"/>
                </a:solidFill>
                <a:latin typeface="Times New Roman"/>
              </a:rPr>
              <a:t>‘equivalence check’</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1A33-9F88-47FB-8D54-BAC16FBDF9CD}"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83"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vestment funds managers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direct impact on rights and obligations of alternative investment fund managers (</a:t>
            </a:r>
            <a:r>
              <a:rPr b="1" lang="en-US" sz="2200" spc="-1" strike="noStrike">
                <a:solidFill>
                  <a:srgbClr val="000000"/>
                </a:solidFill>
                <a:latin typeface="Times New Roman"/>
              </a:rPr>
              <a:t>AIFMs</a:t>
            </a:r>
            <a:r>
              <a:rPr b="0" lang="en-US" sz="2200" spc="-1" strike="noStrike">
                <a:solidFill>
                  <a:srgbClr val="000000"/>
                </a:solidFill>
                <a:latin typeface="Times New Roman"/>
              </a:rPr>
              <a:t>) </a:t>
            </a:r>
            <a:r>
              <a:rPr b="1" lang="en-US" sz="2200" spc="-1" strike="noStrike">
                <a:solidFill>
                  <a:srgbClr val="000000"/>
                </a:solidFill>
                <a:latin typeface="Times New Roman"/>
              </a:rPr>
              <a:t>and UCITS managers</a:t>
            </a:r>
            <a:r>
              <a:rPr b="0" lang="en-US" sz="2200" spc="-1" strike="noStrike">
                <a:solidFill>
                  <a:srgbClr val="000000"/>
                </a:solidFill>
                <a:latin typeface="Times New Roman"/>
              </a:rPr>
              <a:t> should also be expected if the UK is to have third-country status. Their ability to market and provide management services for investment capital (including investment advice, portfolio management and custody and management of assets) would potentially be limited with regard to access to private and professional customers in Member States and might necessitate further licensing or the establishment of specific provisions.</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4291-1603-4E28-952C-572430F607E7}"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86"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3 The impact on subsidiaries</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cedure for establishing a subsidiary of a financial firm (such as a credit institution or an investment firm) would be based (as is the case today) on the licensing conditions laid down in EU law (as implemented in the national legal order). Accordingly, the UK’s exit from the EU would not affect the operation of subsidiaries, even under this regime, and application of the ‘subsidiarisation strategy’ would allow such subsidiaries to make use of the single passport to be granted by the competent authorities of the Member State where their head office would be situated to establish branches and provide services without (permanent) establishment in other Member States.</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7"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595A-2820-4B44-AAAD-28FE76577DDD}"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89"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4 The position of EU financial firms in the UK</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0" lang="en-US" sz="2200" spc="-1" strike="noStrike">
                <a:solidFill>
                  <a:srgbClr val="000000"/>
                </a:solidFill>
                <a:latin typeface="Times New Roman"/>
              </a:rPr>
              <a:t> The position of EU financial firms in the UK would also be affected. The passporting provisions will not apply to EU financial firms having (or intending to establish) branches and providing (or intending to provide) services without (permanent) establishment in the UK. These aspects would be governed by the UK GATS Schedule on specific commitments in financial services.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lang="en-US" sz="2200" spc="-1" strike="noStrike">
                <a:solidFill>
                  <a:srgbClr val="000000"/>
                </a:solidFill>
                <a:latin typeface="Times New Roman"/>
              </a:rPr>
              <a:t> On the other hand, the establishment of subsidiaries of EU financial firms in the UK would be governed by the provisions of the relevant UK law and those of the UK GATS Schedule on specific commitments in financial services.</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205C-6947-4E3B-B3AC-84A9546F183E}"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92" name=""/>
          <p:cNvSpPr txBox="1"/>
          <p:nvPr/>
        </p:nvSpPr>
        <p:spPr>
          <a:xfrm>
            <a:off x="122400" y="836640"/>
            <a:ext cx="891360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Bilateral agreements</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0" lang="en-US" sz="2200" spc="-1" strike="noStrike">
                <a:solidFill>
                  <a:srgbClr val="000000"/>
                </a:solidFill>
                <a:latin typeface="Times New Roman"/>
              </a:rPr>
              <a:t> The conclusion of bilateral agreements would not provide for participation in the EU single market as a whole either. Nevertheless, in this case, and depending on the content of the agreement, the treatment of UK financial firms in the EU could be more favourable than in the case of the application of the GATS. In this context it is reminded that according to EU financial law the EU may conclude agreements with third countries providing for the application of provisions which accord to branches of credit institutions or investment firms having their head office in a third country identical treatment throughout the territory of the EU. It is to be expected that these provisions would be taken into account when drafting the EU-UK bilateral agreement (if this were the concept to be opted for).</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i="1" lang="en-US" sz="2200" spc="-1" strike="noStrike">
                <a:solidFill>
                  <a:srgbClr val="000000"/>
                </a:solidFill>
                <a:latin typeface="Times New Roman"/>
              </a:rPr>
              <a:t> Mutatis mutandis</a:t>
            </a:r>
            <a:r>
              <a:rPr b="0" lang="en-US" sz="2200" spc="-1" strike="noStrike">
                <a:solidFill>
                  <a:srgbClr val="000000"/>
                </a:solidFill>
                <a:latin typeface="Times New Roman"/>
              </a:rPr>
              <a:t>, the same considerations would apply to EU financial firms in the UK, if an EU-UK bilateral agreement were to be concluded.</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3"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FCF1-699B-436B-8BD4-E262D13140F3}"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95" name=""/>
          <p:cNvSpPr txBox="1"/>
          <p:nvPr/>
        </p:nvSpPr>
        <p:spPr>
          <a:xfrm>
            <a:off x="85320" y="637920"/>
            <a:ext cx="8913960" cy="62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Membership of the EE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1 The position of UK financial firms in the EU</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0" lang="en-US" sz="2200" spc="-1" strike="noStrike">
                <a:solidFill>
                  <a:srgbClr val="000000"/>
                </a:solidFill>
                <a:latin typeface="Times New Roman"/>
              </a:rPr>
              <a:t> Opting for this concept (often called also the ‘Norwegian model’) would ensure that the basic EU freedoms and hence the principle of mutual recognition as applied to EU financial firms’ licenses (and all other related aspects) would be granted. The EU Regulations which are sources of EU financial law would cease to apply from the date of the UK’s withdrawal from the EU, only to the extent that they are not of relevance to the EEA and do not apply to EFTA member States.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lang="en-US" sz="2200" spc="-1" strike="noStrike">
                <a:solidFill>
                  <a:srgbClr val="000000"/>
                </a:solidFill>
                <a:latin typeface="Times New Roman"/>
              </a:rPr>
              <a:t> On the other hand, as far as EU Directives which are sources of EU financial law are concerned, those that have been incorporated into UK law would continue to apply as domestic law upon the UK’s withdrawal from the EU, unless they were to be repealed or amended, while new ones would apply to the UK as long as they are of relevance for the EEA. Accordingly, under this concept, the UK’s exit from the EU would not affect either the operation of UK financial firms’ branches in other Member States or the provision by these firms of services without (permanent) establishment therein.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6"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D345-5809-4212-97EB-9E3DFECAE13D}"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98" name=""/>
          <p:cNvSpPr txBox="1"/>
          <p:nvPr/>
        </p:nvSpPr>
        <p:spPr>
          <a:xfrm>
            <a:off x="85320" y="638280"/>
            <a:ext cx="8913960" cy="5959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Membership of the EE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1 The position of UK financial firms in the EU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0" lang="en-US" sz="2200" spc="-1" strike="noStrike">
                <a:solidFill>
                  <a:srgbClr val="000000"/>
                </a:solidFill>
                <a:latin typeface="Times New Roman"/>
              </a:rPr>
              <a:t> The establishment of subsidiaries of UK financial firms in the UK would be governed by the provisions of the UK legal acts transposing the relevant sources of EU financial law into the UK legal orde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2 The position of EU financial firms in the UK</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osition of EU financial firms in the UK would also not be affected. The passporting provisions will apply to EU financial firms having (or intending to establish) branches and providing (or intending to provide) services without (permanent) establishment in the UK. On the other hand, the establishment of subsidiaries of EU financial firms in the UK would be governed by the above-mentioned provisions of UK financial law as shaped by EU financial law.</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9"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02BF-26EC-43BC-8FF0-AA08821CAD22}"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01" name=""/>
          <p:cNvSpPr txBox="1"/>
          <p:nvPr/>
        </p:nvSpPr>
        <p:spPr>
          <a:xfrm>
            <a:off x="95040" y="836280"/>
            <a:ext cx="8915400" cy="583236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overview</a:t>
            </a:r>
            <a:endParaRPr b="0" lang="en-US" sz="24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A</a:t>
            </a:r>
            <a:r>
              <a:rPr b="0" lang="en-US" sz="2200" spc="-1" strike="noStrike">
                <a:solidFill>
                  <a:srgbClr val="000000"/>
                </a:solidFill>
                <a:latin typeface="Times New Roman"/>
              </a:rPr>
              <a:t>lmost to the same extent as their ‘passporting rights’, the framework governing the micro-prudential supervision of the EU branches of UK financial firms and the UK branches of EU financial firms, their reorganisation, resolution and winding-up, as well as the participation of credit institutions’ branches in deposit guarantee schemes and the participation of credit institutions’ and investment firms’ branches in investor compensation schemes will also be affected. </a:t>
            </a:r>
            <a:endParaRPr b="0" lang="en-US" sz="2200" spc="-1" strike="noStrike">
              <a:solidFill>
                <a:srgbClr val="000000"/>
              </a:solidFill>
              <a:latin typeface="Times New Roman"/>
            </a:endParaRPr>
          </a:p>
          <a:p>
            <a:pPr marL="457200" indent="-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lang="en-US" sz="2200" spc="-1" strike="noStrike">
                <a:solidFill>
                  <a:srgbClr val="000000"/>
                </a:solidFill>
                <a:latin typeface="Times New Roman"/>
              </a:rPr>
              <a:t> To a much lesser extent implications will also be evident for the subsidiaries of these financial firms. </a:t>
            </a:r>
            <a:endParaRPr b="0" lang="en-US" sz="2200" spc="-1" strike="noStrike">
              <a:solidFill>
                <a:srgbClr val="000000"/>
              </a:solidFill>
              <a:latin typeface="Times New Roman"/>
            </a:endParaRPr>
          </a:p>
        </p:txBody>
      </p:sp>
      <p:sp>
        <p:nvSpPr>
          <p:cNvPr id="102"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B437-4973-438C-8BA8-1F2E7B0C241A}"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47320" y="259920"/>
            <a:ext cx="87850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OF CONTENTS</a:t>
            </a:r>
            <a:endParaRPr b="0" lang="en-US" sz="2400" spc="-1" strike="noStrike">
              <a:solidFill>
                <a:srgbClr val="000000"/>
              </a:solidFill>
              <a:latin typeface="Times New Roman"/>
            </a:endParaRPr>
          </a:p>
        </p:txBody>
      </p:sp>
      <p:sp>
        <p:nvSpPr>
          <p:cNvPr id="51" name="PlaceHolder 2"/>
          <p:cNvSpPr>
            <a:spLocks noGrp="1"/>
          </p:cNvSpPr>
          <p:nvPr>
            <p:ph type="subTitle"/>
          </p:nvPr>
        </p:nvSpPr>
        <p:spPr>
          <a:xfrm>
            <a:off x="107640" y="1341000"/>
            <a:ext cx="8924760" cy="5256360"/>
          </a:xfrm>
          <a:prstGeom prst="rect">
            <a:avLst/>
          </a:prstGeom>
          <a:noFill/>
          <a:ln w="0">
            <a:noFill/>
          </a:ln>
        </p:spPr>
        <p:txBody>
          <a:bodyPr anchor="t">
            <a:no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 three alternative concepts</a:t>
            </a:r>
            <a:endParaRPr b="0" lang="en-US" sz="2200" spc="-1" strike="noStrike">
              <a:solidFill>
                <a:srgbClr val="000000"/>
              </a:solidFill>
              <a:latin typeface="Times New Roman"/>
            </a:endParaRPr>
          </a:p>
          <a:p>
            <a:pPr marL="609480" indent="-609480" algn="just">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mpact on the ‘passporting rights’ of financial firms</a:t>
            </a:r>
            <a:endParaRPr b="0" lang="en-US" sz="2200" spc="-1" strike="noStrike">
              <a:solidFill>
                <a:srgbClr val="000000"/>
              </a:solidFill>
              <a:latin typeface="Times New Roman"/>
            </a:endParaRPr>
          </a:p>
          <a:p>
            <a:pPr marL="609480" indent="-609480" algn="just">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impact on the regulatory framework governing credit institutions under a ‘third-country status’ scenario for the UK</a:t>
            </a:r>
            <a:endParaRPr b="0" lang="en-US" sz="2200" spc="-1" strike="noStrike">
              <a:solidFill>
                <a:srgbClr val="000000"/>
              </a:solidFill>
              <a:latin typeface="Times New Roman"/>
            </a:endParaRPr>
          </a:p>
          <a:p>
            <a:pPr marL="609480" indent="-609480" algn="just">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stitutional aspects to be affected by the UK’s exit from the EU</a:t>
            </a:r>
            <a:endParaRPr b="0" lang="en-US" sz="2200" spc="-1" strike="noStrike">
              <a:solidFill>
                <a:srgbClr val="000000"/>
              </a:solidFill>
              <a:latin typeface="Times New Roman"/>
            </a:endParaRPr>
          </a:p>
          <a:p>
            <a:pPr marL="609480" indent="-609480" algn="just">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n conclus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04" name=""/>
          <p:cNvSpPr txBox="1"/>
          <p:nvPr/>
        </p:nvSpPr>
        <p:spPr>
          <a:xfrm>
            <a:off x="95040" y="836280"/>
            <a:ext cx="8915400" cy="583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1 Micro-prudential supervision of foreign branches of credit institutions</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Under the analytical framework of the CRD IV, EU credit institutions are being supervised on a solo basis by the competent authorities of their home Member State or by the ECB if they are considered to be significant and their head office is located in a Member State whose currency is the euro within the context of the EBU. </a:t>
            </a:r>
            <a:endParaRPr b="0" lang="en-US" sz="22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micro-prudential supervision also covers (with some exceptions) their branches which are established in other Member States. </a:t>
            </a:r>
            <a:endParaRPr b="0" lang="en-US" sz="2200" spc="-1" strike="noStrike">
              <a:solidFill>
                <a:srgbClr val="000000"/>
              </a:solidFill>
              <a:latin typeface="Times New Roman"/>
            </a:endParaRPr>
          </a:p>
        </p:txBody>
      </p:sp>
      <p:sp>
        <p:nvSpPr>
          <p:cNvPr id="105"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F92E-F09E-4122-ADB5-D0AA8A3847BB}"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07" name=""/>
          <p:cNvSpPr txBox="1"/>
          <p:nvPr/>
        </p:nvSpPr>
        <p:spPr>
          <a:xfrm>
            <a:off x="101160" y="907920"/>
            <a:ext cx="8915400" cy="5834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1 Micro-prudential supervision of foreign branches of credit institutions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If the UK were to be granted third-country status and given that in this case the principle of mutual recognition would no longer apply, this regime would be altered. The conduct of micro-prudential supervision of UK credit institutions would hence continue to be the responsibility of the PRA in accordance with the provisions of UK law (which currently, and unless amended, is based on the CRD IV). Nevertheless, the branches of these credit institutions in the EU would be supervised by the competent authorities of the host Member State.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 </a:t>
            </a:r>
            <a:r>
              <a:rPr b="0" lang="en-GB" sz="2200" spc="-1" strike="noStrike">
                <a:solidFill>
                  <a:srgbClr val="000000"/>
                </a:solidFill>
                <a:latin typeface="Times New Roman"/>
              </a:rPr>
              <a:t>On the other hand, the branches of EU credit institutions in the UK would be subject to micro-prudential supervision by the PRA in accordance with the provisions of UK law on their treatment. </a:t>
            </a:r>
            <a:endParaRPr b="0" lang="en-US" sz="2200" spc="-1" strike="noStrike">
              <a:solidFill>
                <a:srgbClr val="000000"/>
              </a:solidFill>
              <a:latin typeface="Times New Roman"/>
            </a:endParaRPr>
          </a:p>
        </p:txBody>
      </p:sp>
      <p:sp>
        <p:nvSpPr>
          <p:cNvPr id="108"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4689-FA51-4869-8E5D-C65229C78892}"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10" name=""/>
          <p:cNvSpPr txBox="1"/>
          <p:nvPr/>
        </p:nvSpPr>
        <p:spPr>
          <a:xfrm>
            <a:off x="157320" y="786960"/>
            <a:ext cx="8913600" cy="6070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2.2 Consolidated micro-prudential supervision</a:t>
            </a:r>
            <a:endParaRPr b="0" lang="en-US" sz="24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EU credit institutions are also subject to micro-prudential supervision on a consolidated basis, including at least all their banking subsidiaries, in principle by the competent authorities of the Member State where the parent company’s head office is situated, or by the ECB (under the same above-mentioned conditions). If the UK were to be granted the status of a third country, applicable to consolidated supervision would be </a:t>
            </a:r>
            <a:r>
              <a:rPr b="1" lang="en-GB" sz="2200" spc="-1" strike="noStrike">
                <a:solidFill>
                  <a:srgbClr val="000000"/>
                </a:solidFill>
                <a:latin typeface="Times New Roman"/>
              </a:rPr>
              <a:t>Articles 127</a:t>
            </a:r>
            <a:r>
              <a:rPr b="0" lang="en-GB" sz="2200" spc="-1" strike="noStrike">
                <a:solidFill>
                  <a:srgbClr val="000000"/>
                </a:solidFill>
                <a:latin typeface="Times New Roman"/>
              </a:rPr>
              <a:t> and</a:t>
            </a:r>
            <a:r>
              <a:rPr b="1" lang="en-GB" sz="2200" spc="-1" strike="noStrike">
                <a:solidFill>
                  <a:srgbClr val="000000"/>
                </a:solidFill>
                <a:latin typeface="Times New Roman"/>
              </a:rPr>
              <a:t> 48 CRD IV</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I</a:t>
            </a:r>
            <a:r>
              <a:rPr b="0" lang="en-US" sz="2200" spc="-1" strike="noStrike">
                <a:solidFill>
                  <a:srgbClr val="000000"/>
                </a:solidFill>
                <a:latin typeface="Times New Roman"/>
              </a:rPr>
              <a:t>f a credit institution, the parent undertaking of which is a credit institution, an investment firm, a financial holding company or a mixed financial holding company with its head office in a third country, is not subject to consolidated supervision under </a:t>
            </a:r>
            <a:r>
              <a:rPr b="1" lang="en-US" sz="2200" spc="-1" strike="noStrike">
                <a:solidFill>
                  <a:srgbClr val="000000"/>
                </a:solidFill>
                <a:latin typeface="Times New Roman"/>
              </a:rPr>
              <a:t>Article 111</a:t>
            </a:r>
            <a:r>
              <a:rPr b="0" lang="en-US" sz="2200" spc="-1" strike="noStrike">
                <a:solidFill>
                  <a:srgbClr val="000000"/>
                </a:solidFill>
                <a:latin typeface="Times New Roman"/>
              </a:rPr>
              <a:t>, the competent authorities must assess whether this credit institution is subject to consolidated supervision by a third-country supervisory authority which is </a:t>
            </a:r>
            <a:r>
              <a:rPr b="1" lang="en-US" sz="2200" spc="-1" strike="noStrike">
                <a:solidFill>
                  <a:srgbClr val="000000"/>
                </a:solidFill>
                <a:latin typeface="Times New Roman"/>
              </a:rPr>
              <a:t>‘equivalent’</a:t>
            </a:r>
            <a:r>
              <a:rPr b="0" lang="en-US" sz="2200" spc="-1" strike="noStrike">
                <a:solidFill>
                  <a:srgbClr val="000000"/>
                </a:solidFill>
                <a:latin typeface="Times New Roman"/>
              </a:rPr>
              <a:t> to that governed by the principles set out in the CRD IV and the relevant requirements of the CRR.</a:t>
            </a:r>
            <a:r>
              <a:rPr b="0" lang="en-US" sz="2200" spc="-1" strike="noStrike" baseline="30000">
                <a:solidFill>
                  <a:srgbClr val="000000"/>
                </a:solidFill>
                <a:latin typeface="Times New Roman"/>
              </a:rPr>
              <a:t> </a:t>
            </a:r>
            <a:endParaRPr b="0" lang="en-US" sz="2200" spc="-1" strike="noStrike">
              <a:solidFill>
                <a:srgbClr val="000000"/>
              </a:solidFill>
              <a:latin typeface="Times New Roman"/>
            </a:endParaRPr>
          </a:p>
        </p:txBody>
      </p:sp>
      <p:sp>
        <p:nvSpPr>
          <p:cNvPr id="111"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1F3F-C961-4CCF-B2A5-CE07A07E5855}"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13" name=""/>
          <p:cNvSpPr txBox="1"/>
          <p:nvPr/>
        </p:nvSpPr>
        <p:spPr>
          <a:xfrm>
            <a:off x="157320" y="786960"/>
            <a:ext cx="8913600" cy="6070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2.2 Consolidated micro-prudential supervision (cont.)</a:t>
            </a:r>
            <a:endParaRPr b="0" lang="en-US" sz="2400" spc="-1" strike="noStrike">
              <a:solidFill>
                <a:srgbClr val="000000"/>
              </a:solidFill>
              <a:latin typeface="Times New Roman"/>
            </a:endParaRPr>
          </a:p>
          <a:p>
            <a:pPr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absence of such equivalent supervision, Member States must apply the CRD IV and the CRR to the credit institution </a:t>
            </a:r>
            <a:r>
              <a:rPr b="0" i="1" lang="en-US" sz="2200" spc="-1" strike="noStrike">
                <a:solidFill>
                  <a:srgbClr val="000000"/>
                </a:solidFill>
                <a:latin typeface="Times New Roman"/>
              </a:rPr>
              <a:t>mutatis mutandis</a:t>
            </a:r>
            <a:r>
              <a:rPr b="0" lang="en-US" sz="2200" spc="-1" strike="noStrike">
                <a:solidFill>
                  <a:srgbClr val="000000"/>
                </a:solidFill>
                <a:latin typeface="Times New Roman"/>
              </a:rPr>
              <a:t> or allow their competent authorities to apply other appropriate supervisory techniques which achieve the objectives of credit institutions’ consolidated supervision</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a:t>
            </a:r>
            <a:r>
              <a:rPr b="0" lang="en-GB" sz="2200" spc="-1" strike="noStrike">
                <a:solidFill>
                  <a:srgbClr val="000000"/>
                </a:solidFill>
                <a:latin typeface="Times New Roman"/>
              </a:rPr>
              <a:t> On the other hand, the Commission may submit proposals to the Council for the negotiation of agreements with one or more third countries regarding the means of exercising supervision on a consolidated basis over credit institutions the parent undertakings of which have their head offices in a third country and credit institutions situated in third countries the parent undertakings of which have their head offices in the EU, in order to ensure that specific conditions laid down in the Directive are met.</a:t>
            </a:r>
            <a:endParaRPr b="0" lang="en-US" sz="2200" spc="-1" strike="noStrike">
              <a:solidFill>
                <a:srgbClr val="000000"/>
              </a:solidFill>
              <a:latin typeface="Times New Roman"/>
            </a:endParaRPr>
          </a:p>
        </p:txBody>
      </p:sp>
      <p:sp>
        <p:nvSpPr>
          <p:cNvPr id="114"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B022-3C6A-4D7F-9864-A0DDE32FC746}"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16"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2.3 A specific case: the direct supervision of credit rating agencies by the ESMA</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The regulatory framework governing the operation of credit rating agencies established in Member States is governed by </a:t>
            </a:r>
            <a:r>
              <a:rPr b="1" lang="en-GB" sz="2200" spc="-1" strike="noStrike">
                <a:solidFill>
                  <a:srgbClr val="000000"/>
                </a:solidFill>
                <a:latin typeface="Times New Roman"/>
              </a:rPr>
              <a:t>Regulation (EC) No 1060/2009</a:t>
            </a:r>
            <a:r>
              <a:rPr b="0" lang="en-GB" sz="2200" spc="-1" strike="noStrike">
                <a:solidFill>
                  <a:srgbClr val="000000"/>
                </a:solidFill>
                <a:latin typeface="Times New Roman"/>
              </a:rPr>
              <a:t> of the European Parliament and of the Council (as in force). These are </a:t>
            </a:r>
            <a:r>
              <a:rPr b="0" i="1" lang="en-GB" sz="2200" spc="-1" strike="noStrike">
                <a:solidFill>
                  <a:srgbClr val="000000"/>
                </a:solidFill>
                <a:latin typeface="Times New Roman"/>
              </a:rPr>
              <a:t>directly</a:t>
            </a:r>
            <a:r>
              <a:rPr b="0" lang="en-GB" sz="2200" spc="-1" strike="noStrike">
                <a:solidFill>
                  <a:srgbClr val="000000"/>
                </a:solidFill>
                <a:latin typeface="Times New Roman"/>
              </a:rPr>
              <a:t> supervised by the European Securities and Markets Authority (ESMA), which, in that respect and as an exception, constitutes, as already mentioned, the only genuinely supervisory body among the ESAs. Since the UK will no longer be represented in the ESMA upon its exit from the EU, the credit rating agencies incorporated in the UK will no longer be subject to the direct supervision of the ESMA but will be supervised by the UK authorities which will be designated as competent. </a:t>
            </a:r>
            <a:endParaRPr b="0" lang="en-US" sz="2200" spc="-1" strike="noStrike">
              <a:solidFill>
                <a:srgbClr val="000000"/>
              </a:solidFill>
              <a:latin typeface="Times New Roman"/>
            </a:endParaRPr>
          </a:p>
        </p:txBody>
      </p:sp>
      <p:sp>
        <p:nvSpPr>
          <p:cNvPr id="117"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50C9-56AD-4A55-873E-202D8330134D}"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19"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icro-prudential supervision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2.3 A specific case: the direct supervision of credit rating agencies by the ESMA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Nevertheless, the above Regulation provides that </a:t>
            </a:r>
            <a:r>
              <a:rPr b="0" lang="el-GR" sz="2200" spc="-1" strike="noStrike">
                <a:solidFill>
                  <a:srgbClr val="000000"/>
                </a:solidFill>
                <a:latin typeface="Times New Roman"/>
              </a:rPr>
              <a:t>credit ratings related to entities established or financial instruments issued in third countries and issued by a credit rating agency established in a third country may be used in the EU only under an ‘endorsement regime. In addition, the Commission may, under specific conditions, adopt an </a:t>
            </a:r>
            <a:r>
              <a:rPr b="1" lang="el-GR" sz="2200" spc="-1" strike="noStrike">
                <a:solidFill>
                  <a:srgbClr val="000000"/>
                </a:solidFill>
                <a:latin typeface="Times New Roman"/>
              </a:rPr>
              <a:t>‘equivalence decision’</a:t>
            </a:r>
            <a:r>
              <a:rPr b="0" lang="el-GR" sz="2200" spc="-1" strike="noStrike">
                <a:solidFill>
                  <a:srgbClr val="000000"/>
                </a:solidFill>
                <a:latin typeface="Times New Roman"/>
              </a:rPr>
              <a:t> stating that the legal and supervisory framework of a third country ensures that credit rating agencies authorised or registered there in comply with legally binding requirements which are equivalent to the requirements resulting from said Regulation and are subject to effective supervision and enforcement in that third country.</a:t>
            </a:r>
            <a:endParaRPr b="0" lang="en-US" sz="2200" spc="-1" strike="noStrike">
              <a:solidFill>
                <a:srgbClr val="000000"/>
              </a:solidFill>
              <a:latin typeface="Times New Roman"/>
            </a:endParaRPr>
          </a:p>
        </p:txBody>
      </p:sp>
      <p:sp>
        <p:nvSpPr>
          <p:cNvPr id="120"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C9C3-B015-4EBF-AFE8-1B30E52E9D93}"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22"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 Resolu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3.1 The status quo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or Member States, such as the UK, that are not members of the Banking Union, the EU regulatory framework governing the recovery and resolution of credit institutions (and investment firms) comprises the BRRD and the delegated and implementing acts adopted pursuant to individual provisions thereof. </a:t>
            </a:r>
            <a:endParaRPr b="0" lang="en-US" sz="2200" spc="-1" strike="noStrike">
              <a:solidFill>
                <a:srgbClr val="000000"/>
              </a:solidFill>
              <a:latin typeface="Times New Roman"/>
            </a:endParaRPr>
          </a:p>
        </p:txBody>
      </p:sp>
      <p:sp>
        <p:nvSpPr>
          <p:cNvPr id="123"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57AE-2CEF-457A-9907-6A1E2161DF86}"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25"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 Resolu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2 The impact of the UK’s exit from the EU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The UK’s exit from the EU and the granting of third-country status raises several issues. The first issue is whether the UK’s exit from the EU will lead to a substantial modification of the UK legislation having transposed the BRRD. In this respect, it should be noted that the BRRD follows and introduces into the EU legal order the international standard of the above-mentioned FSB report entitled </a:t>
            </a:r>
            <a:r>
              <a:rPr b="1" lang="en-GB" sz="2200" spc="-1" strike="noStrike">
                <a:solidFill>
                  <a:srgbClr val="000000"/>
                </a:solidFill>
                <a:latin typeface="Times New Roman"/>
              </a:rPr>
              <a:t>“Key Attributes of Effective Resolution Regimes for Financial Institutions”</a:t>
            </a: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6"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F766-A696-4E4C-B4DB-6BA0BAF4BFD4}"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28" name=""/>
          <p:cNvSpPr txBox="1"/>
          <p:nvPr/>
        </p:nvSpPr>
        <p:spPr>
          <a:xfrm>
            <a:off x="157320" y="787320"/>
            <a:ext cx="8913600" cy="58104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 Resolu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2 The impact of the UK’s exit from the EU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standard sets out the main axes for the efficient resolution of a bank in an organised manner, without taxpayers incurring the costs of an insolvent bank’s losses and concurrently ensuring that key banking services continue to be provided. It is noted that this standard was approved in November 2011 by the heads of state at the G20 Cannes summit. The UK is a member of both the G20 and the FSB and, as a matter of fact, was one of the states that significantly contributed to both the elaboration of this framework and its approval at international political level. Furthermore, the UK was one of the first EU Member States that adopted a special regulatory framework for the resolution of credit institutions before any such efforts even begun to be undertaken at European level.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aking all this into account, the UK’s fully abolishing or significantly altering the main element of the regulatory framework included in the BRRD should, in principle, be ruled out.</a:t>
            </a:r>
            <a:endParaRPr b="0" lang="en-US" sz="2200" spc="-1" strike="noStrike">
              <a:solidFill>
                <a:srgbClr val="000000"/>
              </a:solidFill>
              <a:latin typeface="Times New Roman"/>
            </a:endParaRPr>
          </a:p>
        </p:txBody>
      </p:sp>
      <p:sp>
        <p:nvSpPr>
          <p:cNvPr id="129"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CD51-4E66-4196-9628-3A67AD5EA9B7}"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31" name=""/>
          <p:cNvSpPr txBox="1"/>
          <p:nvPr/>
        </p:nvSpPr>
        <p:spPr>
          <a:xfrm>
            <a:off x="157320" y="787320"/>
            <a:ext cx="8913600" cy="58104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 Resolu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2 The impact of the UK’s exit from the EU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After the UK’s exit from the EU, however, it is not possible to assess to what extent individual elements of this framework, e.g. the minimum content included in recovery and resolution plans or the minimum requirement for own funds and eligible liabilities (</a:t>
            </a:r>
            <a:r>
              <a:rPr b="1" lang="en-GB" sz="2200" spc="-1" strike="noStrike">
                <a:solidFill>
                  <a:srgbClr val="000000"/>
                </a:solidFill>
                <a:latin typeface="Times New Roman"/>
              </a:rPr>
              <a:t>MREL</a:t>
            </a:r>
            <a:r>
              <a:rPr b="0" lang="en-GB" sz="2200" spc="-1" strike="noStrike">
                <a:solidFill>
                  <a:srgbClr val="000000"/>
                </a:solidFill>
                <a:latin typeface="Times New Roman"/>
              </a:rPr>
              <a:t>), would be altered and in which direction. For the near future, nevertheless, the BoE has expressed a clear intention to continue its work on compliance and implementation of requirements resulting from the BRRD.</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a:t>
            </a:r>
            <a:r>
              <a:rPr b="0" lang="en-GB" sz="2200" spc="-1" strike="noStrike">
                <a:solidFill>
                  <a:srgbClr val="000000"/>
                </a:solidFill>
                <a:latin typeface="Times New Roman"/>
              </a:rPr>
              <a:t> A second (and equally important) issue is that, if the UK were to be granted third-country status, applicable would be the analytical set of the BRRD’s provisions on third countries, which refer to the conclusion of agreements with third countries, the recognition and enforcement of third-country resolution proceedings, the right to refuse recognition or enforcement of third-country resolution proceedings, the cooperation with third-country authorities and the exchange of confidential information. </a:t>
            </a:r>
            <a:endParaRPr b="0" lang="en-US" sz="2200" spc="-1" strike="noStrike">
              <a:solidFill>
                <a:srgbClr val="000000"/>
              </a:solidFill>
              <a:latin typeface="Times New Roman"/>
            </a:endParaRPr>
          </a:p>
        </p:txBody>
      </p:sp>
      <p:sp>
        <p:nvSpPr>
          <p:cNvPr id="132"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9394-C90F-4B18-93A0-46B8DE2D3A4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115920"/>
            <a:ext cx="9036000" cy="720720"/>
          </a:xfrm>
          <a:prstGeom prst="rect">
            <a:avLst/>
          </a:prstGeom>
          <a:noFill/>
          <a:ln w="0">
            <a:noFill/>
          </a:ln>
        </p:spPr>
        <p:txBody>
          <a:bodyPr anchor="ctr">
            <a:noAutofit/>
          </a:bodyPr>
          <a:p>
            <a:pPr marL="514440" indent="-514440" algn="ctr">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hree alternative concepts</a:t>
            </a:r>
            <a:endParaRPr b="0" lang="en-US" sz="2400" spc="-1" strike="noStrike">
              <a:solidFill>
                <a:srgbClr val="000000"/>
              </a:solidFill>
              <a:latin typeface="Times New Roman"/>
            </a:endParaRPr>
          </a:p>
        </p:txBody>
      </p:sp>
      <p:sp>
        <p:nvSpPr>
          <p:cNvPr id="53" name=""/>
          <p:cNvSpPr txBox="1"/>
          <p:nvPr/>
        </p:nvSpPr>
        <p:spPr>
          <a:xfrm>
            <a:off x="122040" y="836280"/>
            <a:ext cx="8713800" cy="5769000"/>
          </a:xfrm>
          <a:prstGeom prst="rect">
            <a:avLst/>
          </a:prstGeom>
          <a:noFill/>
          <a:ln w="0">
            <a:noFill/>
          </a:ln>
        </p:spPr>
        <p:txBody>
          <a:bodyPr anchor="t">
            <a:normAutofit/>
          </a:bodyPr>
          <a:p>
            <a:pPr algn="just">
              <a:lnSpc>
                <a:spcPct val="11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K access to the EU single market will be determined by the future concept that will be opted for under the agreement of the UK’s exit from the EU. </a:t>
            </a:r>
            <a:r>
              <a:rPr b="0" lang="el-GR" sz="2200" spc="-1" strike="noStrike">
                <a:solidFill>
                  <a:srgbClr val="000000"/>
                </a:solidFill>
                <a:latin typeface="Times New Roman"/>
              </a:rPr>
              <a:t>Τ</a:t>
            </a:r>
            <a:r>
              <a:rPr b="0" lang="en-US" sz="2200" spc="-1" strike="noStrike">
                <a:solidFill>
                  <a:srgbClr val="000000"/>
                </a:solidFill>
                <a:latin typeface="Times New Roman"/>
              </a:rPr>
              <a:t>he alternative options, following the completion of the procedure, for the UK’s status </a:t>
            </a:r>
            <a:r>
              <a:rPr b="0" i="1" lang="en-US" sz="2200" spc="-1" strike="noStrike">
                <a:solidFill>
                  <a:srgbClr val="000000"/>
                </a:solidFill>
                <a:latin typeface="Times New Roman"/>
              </a:rPr>
              <a:t>vis-à-vis</a:t>
            </a:r>
            <a:r>
              <a:rPr b="0" lang="en-US" sz="2200" spc="-1" strike="noStrike">
                <a:solidFill>
                  <a:srgbClr val="000000"/>
                </a:solidFill>
                <a:latin typeface="Times New Roman"/>
              </a:rPr>
              <a:t> the EU with regard to financial services could take on the following three forms:</a:t>
            </a:r>
            <a:endParaRPr b="0" lang="en-US" sz="2200" spc="-1" strike="noStrike">
              <a:solidFill>
                <a:srgbClr val="000000"/>
              </a:solidFill>
              <a:latin typeface="Times New Roman"/>
            </a:endParaRPr>
          </a:p>
          <a:p>
            <a:pPr algn="just">
              <a:lnSpc>
                <a:spcPct val="115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country status under the provisions of the General Agreement on Trade in Services of the World Trade Organisation</a:t>
            </a:r>
            <a:endParaRPr b="0" lang="en-US" sz="2400" spc="-1" strike="noStrike">
              <a:solidFill>
                <a:srgbClr val="000000"/>
              </a:solidFill>
              <a:latin typeface="Times New Roman"/>
            </a:endParaRPr>
          </a:p>
          <a:p>
            <a:pPr algn="just">
              <a:lnSpc>
                <a:spcPct val="115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status through a bilateral agreement with the EU</a:t>
            </a:r>
            <a:endParaRPr b="0" lang="en-US" sz="2400" spc="-1" strike="noStrike">
              <a:solidFill>
                <a:srgbClr val="000000"/>
              </a:solidFill>
              <a:latin typeface="Times New Roman"/>
            </a:endParaRPr>
          </a:p>
          <a:p>
            <a:pPr algn="just">
              <a:lnSpc>
                <a:spcPct val="115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hip of the European Economic Area, with a specific case of membership of the European Free Trade Association without membership of the European Economic Area (the case of Switzerland)</a:t>
            </a:r>
            <a:endParaRPr b="0" lang="en-US" sz="2400" spc="-1" strike="noStrike">
              <a:solidFill>
                <a:srgbClr val="000000"/>
              </a:solidFill>
              <a:latin typeface="Times New Roman"/>
            </a:endParaRPr>
          </a:p>
          <a:p>
            <a:pPr algn="just">
              <a:lnSpc>
                <a:spcPct val="115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Θέση αριθμού διαφάνειας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BB6C-174A-469F-8E2D-C7F35F7620A2}"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34"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 Resolu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2 The impact of the UK’s exit from the EU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n addition, the BRRD provides that the resolution of a branch of a third-country credit institution operating in a Member State may be carried out, under specific conditions, by its resolution authorities. </a:t>
            </a:r>
            <a:endParaRPr b="0" lang="en-US" sz="2200" spc="-1" strike="noStrike">
              <a:solidFill>
                <a:srgbClr val="000000"/>
              </a:solidFill>
              <a:latin typeface="Times New Roman"/>
            </a:endParaRPr>
          </a:p>
        </p:txBody>
      </p:sp>
      <p:sp>
        <p:nvSpPr>
          <p:cNvPr id="135"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599C-04FF-4949-87AA-F6F0F001D067}"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37" name=""/>
          <p:cNvSpPr txBox="1"/>
          <p:nvPr/>
        </p:nvSpPr>
        <p:spPr>
          <a:xfrm>
            <a:off x="157320" y="787320"/>
            <a:ext cx="8913600" cy="581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 Participation in deposit guarantee scheme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4.1 The status quo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The rules and procedures relating to the establishment and the functioning of deposit guarantee schemes are laid down in the DGSD. Membership of EU credit institutions in the officially recognised DGS(s) operating in their home Member State constitutes a </a:t>
            </a:r>
            <a:r>
              <a:rPr b="0" i="1" lang="en-GB" sz="2200" spc="-1" strike="noStrike">
                <a:solidFill>
                  <a:srgbClr val="000000"/>
                </a:solidFill>
                <a:latin typeface="Times New Roman"/>
              </a:rPr>
              <a:t>sine qua non</a:t>
            </a:r>
            <a:r>
              <a:rPr b="0" lang="en-GB" sz="2200" spc="-1" strike="noStrike">
                <a:solidFill>
                  <a:srgbClr val="000000"/>
                </a:solidFill>
                <a:latin typeface="Times New Roman"/>
              </a:rPr>
              <a:t> condition for their right to accept deposits from the public. Hence, no EU credit institution is allowed to accept deposits from the public, unless it is a member of a DGS officially recognised in its home Member State.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According to the principle of mutual recognition, deposits which EU credit institutions accept through their branches established in host Member States, are covered by the DGS operating in their home Member State.</a:t>
            </a:r>
            <a:endParaRPr b="0" lang="en-US" sz="2200" spc="-1" strike="noStrike">
              <a:solidFill>
                <a:srgbClr val="000000"/>
              </a:solidFill>
              <a:latin typeface="Times New Roman"/>
            </a:endParaRPr>
          </a:p>
        </p:txBody>
      </p:sp>
      <p:sp>
        <p:nvSpPr>
          <p:cNvPr id="138"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70BC-8244-441C-846C-9A984E522826}"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40" name=""/>
          <p:cNvSpPr txBox="1"/>
          <p:nvPr/>
        </p:nvSpPr>
        <p:spPr>
          <a:xfrm>
            <a:off x="157320" y="786960"/>
            <a:ext cx="8913600" cy="59547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 Participation in deposit guarantee scheme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4.2 The impact of the UK’s exit from the EU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If the UK were to be granted third-country status, this regime would be altered in the following way. UK credit institutions would continue to be members of the UK deposit guarantee scheme (in accordance with the provisions of UK law, which currently, and unless amended, are based on the Directive).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guarantee of deposits at their branches established in EU Member States would, nevertheless, be governed by </a:t>
            </a:r>
            <a:r>
              <a:rPr b="1" lang="en-GB" sz="2200" spc="-1" strike="noStrike">
                <a:solidFill>
                  <a:srgbClr val="000000"/>
                </a:solidFill>
                <a:latin typeface="Times New Roman"/>
              </a:rPr>
              <a:t>Article 15</a:t>
            </a:r>
            <a:r>
              <a:rPr b="0" lang="en-GB" sz="2200" spc="-1" strike="noStrike">
                <a:solidFill>
                  <a:srgbClr val="000000"/>
                </a:solidFill>
                <a:latin typeface="Times New Roman"/>
              </a:rPr>
              <a:t> of that Directive (as incorporated into their domestic law), which requires Member States to check: </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hether the branches established in their territory by third-country credit institutions have protection ‘</a:t>
            </a:r>
            <a:r>
              <a:rPr b="1" lang="en-GB" sz="2200" spc="-1" strike="noStrike">
                <a:solidFill>
                  <a:srgbClr val="000000"/>
                </a:solidFill>
                <a:latin typeface="Times New Roman"/>
              </a:rPr>
              <a:t>equivalent</a:t>
            </a:r>
            <a:r>
              <a:rPr b="0" lang="en-GB" sz="2200" spc="-1" strike="noStrike">
                <a:solidFill>
                  <a:srgbClr val="000000"/>
                </a:solidFill>
                <a:latin typeface="Times New Roman"/>
              </a:rPr>
              <a:t>’ to that prescribed in the Directive, and </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least that depositors benefit from the same coverage level and scope of protection as provided for therein.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1"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4818-765D-49D5-922E-090C917EBB98}"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The impact on the regulatory framework governing credit institutions under a ‘third-country status’ scenario for the UK</a:t>
            </a:r>
            <a:endParaRPr b="0" lang="en-US" sz="2400" spc="-1" strike="noStrike">
              <a:solidFill>
                <a:srgbClr val="000000"/>
              </a:solidFill>
              <a:latin typeface="Times New Roman"/>
            </a:endParaRPr>
          </a:p>
        </p:txBody>
      </p:sp>
      <p:sp>
        <p:nvSpPr>
          <p:cNvPr id="143" name=""/>
          <p:cNvSpPr txBox="1"/>
          <p:nvPr/>
        </p:nvSpPr>
        <p:spPr>
          <a:xfrm>
            <a:off x="157320" y="786960"/>
            <a:ext cx="8913600" cy="5954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 Participation in deposit guarantee scheme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4.2 The impact of the UK’s exit from the EU (cont.)</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rPr>
              <a:t>Accordingly, if protection would not be considered to be equivalent, these branches would be obliged (if the national law of the Member State so requires) to join the, or any of the, DGS(s) officially recognised and operating within the territory of the Member State.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On the other hand, the branches of EU credit institutions in the UK would be required to participate in the UK deposit guarantee scheme in accordance with the provisions of UK law on the treatment of foreign branches. </a:t>
            </a: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A5C3-3408-41BB-A547-4F5878F998DA}"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 Institutional aspects to be affected by the UK’s exit from the EU</a:t>
            </a:r>
            <a:endParaRPr b="0" lang="en-US" sz="2400" spc="-1" strike="noStrike">
              <a:solidFill>
                <a:srgbClr val="000000"/>
              </a:solidFill>
              <a:latin typeface="Times New Roman"/>
            </a:endParaRPr>
          </a:p>
        </p:txBody>
      </p:sp>
      <p:sp>
        <p:nvSpPr>
          <p:cNvPr id="146" name=""/>
          <p:cNvSpPr txBox="1"/>
          <p:nvPr/>
        </p:nvSpPr>
        <p:spPr>
          <a:xfrm>
            <a:off x="157320" y="786960"/>
            <a:ext cx="8913600" cy="59547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Decision taken: In view of the UK’s exit from the EU, and irrespective of the future EU-UK relationship, the EBA’s seat (currently located in London) will be transferred to Paris and its constituting Regulation be amended accordingly. The UK-EBA Headquarters Agreement would also have to be terminated (in accordance with its Article 20 which requires an Exchange of Notes between the UK Government and the EBA).</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a:t>
            </a:r>
            <a:r>
              <a:rPr b="0" lang="en-GB" sz="2200" spc="-1" strike="noStrike">
                <a:solidFill>
                  <a:srgbClr val="000000"/>
                </a:solidFill>
                <a:latin typeface="Times New Roman"/>
              </a:rPr>
              <a:t> The UK’s exit from the EU is not expected to have any impact on the two main pillars of the Banking Union, since both the SSM and the SRM are mainly designed for euro area Member States.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 </a:t>
            </a:r>
            <a:r>
              <a:rPr b="0" lang="en-GB" sz="2200" spc="-1" strike="noStrike">
                <a:solidFill>
                  <a:srgbClr val="000000"/>
                </a:solidFill>
                <a:latin typeface="Times New Roman"/>
              </a:rPr>
              <a:t>In principle, </a:t>
            </a:r>
            <a:r>
              <a:rPr b="0" lang="en-US" sz="2200" spc="-1" strike="noStrike">
                <a:solidFill>
                  <a:srgbClr val="000000"/>
                </a:solidFill>
                <a:latin typeface="Times New Roman"/>
              </a:rPr>
              <a:t>and ir</a:t>
            </a:r>
            <a:r>
              <a:rPr b="0" lang="en-GB" sz="2200" spc="-1" strike="noStrike">
                <a:solidFill>
                  <a:srgbClr val="000000"/>
                </a:solidFill>
                <a:latin typeface="Times New Roman"/>
              </a:rPr>
              <a:t>respective of the future EU-UK relationship, the functioning of the ESCB and the ECB will also not be substantially affected by the UK’s exit. The only exceptions are the ECB’s capital and the decision-making process in its General Council. In particular, when the UK leaves the EU the BoE will cease to be a member of the ESCB and hence arrangements will have to be made with regard to its share in the ECB’s subscribed capital and its paid-up capital. It is not clear whether the BoE will have a right to retrieve its already paid-up capital, worth </a:t>
            </a:r>
            <a:r>
              <a:rPr b="1" lang="en-GB" sz="2200" spc="-1" strike="noStrike">
                <a:solidFill>
                  <a:srgbClr val="000000"/>
                </a:solidFill>
                <a:latin typeface="Times New Roman"/>
              </a:rPr>
              <a:t>55.5 million euros</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6106-A7BC-48B1-AC7D-34C2F8951CA9}"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 Institutional aspects to be affected by the UK’s exit from the EU</a:t>
            </a:r>
            <a:endParaRPr b="0" lang="en-US" sz="2400" spc="-1" strike="noStrike">
              <a:solidFill>
                <a:srgbClr val="000000"/>
              </a:solidFill>
              <a:latin typeface="Times New Roman"/>
            </a:endParaRPr>
          </a:p>
        </p:txBody>
      </p:sp>
      <p:sp>
        <p:nvSpPr>
          <p:cNvPr id="149" name=""/>
          <p:cNvSpPr txBox="1"/>
          <p:nvPr/>
        </p:nvSpPr>
        <p:spPr>
          <a:xfrm>
            <a:off x="157320" y="786960"/>
            <a:ext cx="8913600" cy="59547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4)</a:t>
            </a:r>
            <a:r>
              <a:rPr b="0" lang="en-GB" sz="2200" spc="-1" strike="noStrike">
                <a:solidFill>
                  <a:srgbClr val="000000"/>
                </a:solidFill>
                <a:latin typeface="Times New Roman"/>
              </a:rPr>
              <a:t> The operation of the European System of Financial Supervision (ESFS) will, in principle, also not be affected; nevertheless, there will be an impact on the composition of the ESRB’s governing bodies, on the composition of the governing bodies of the ESAs (the only impact which will depend on the model to be adopted for the future EU-UK relationship), and on the ESAs’ budge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t is evident that, since the PRA and the FCA will cease to be members of the ESAs after the UK’s exit from the EU, and irrespective of the future EU-UK relationship, the mandatory contributions to be paid by other national authorities-members will increase significantly. The distribution of this additional burden will mainly depend either on the outcome of the re-adjustment of the weightings set out in </a:t>
            </a:r>
            <a:r>
              <a:rPr b="1" lang="en-GB" sz="2200" spc="-1" strike="noStrike">
                <a:solidFill>
                  <a:srgbClr val="000000"/>
                </a:solidFill>
                <a:latin typeface="Times New Roman"/>
              </a:rPr>
              <a:t>Article 3(3) of Protocol (No 36)</a:t>
            </a:r>
            <a:r>
              <a:rPr b="0" lang="en-GB" sz="2200" spc="-1" strike="noStrike">
                <a:solidFill>
                  <a:srgbClr val="000000"/>
                </a:solidFill>
                <a:latin typeface="Times New Roman"/>
              </a:rPr>
              <a:t> attached to the Treaties or on the weightings under any new formula to be adopted </a:t>
            </a:r>
            <a:r>
              <a:rPr b="0" i="1" lang="en-GB" sz="2200" spc="-1" strike="noStrike">
                <a:solidFill>
                  <a:srgbClr val="000000"/>
                </a:solidFill>
                <a:latin typeface="Times New Roman"/>
              </a:rPr>
              <a:t>ad hoc</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7084-B270-4DEE-AB13-FFA146188017}"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 Institutional aspects to be affected by the UK’s exit from the EU</a:t>
            </a:r>
            <a:endParaRPr b="0" lang="en-US" sz="2400" spc="-1" strike="noStrike">
              <a:solidFill>
                <a:srgbClr val="000000"/>
              </a:solidFill>
              <a:latin typeface="Times New Roman"/>
            </a:endParaRPr>
          </a:p>
        </p:txBody>
      </p:sp>
      <p:sp>
        <p:nvSpPr>
          <p:cNvPr id="152" name=""/>
          <p:cNvSpPr txBox="1"/>
          <p:nvPr/>
        </p:nvSpPr>
        <p:spPr>
          <a:xfrm>
            <a:off x="157320" y="786960"/>
            <a:ext cx="8913600" cy="59547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5)</a:t>
            </a:r>
            <a:r>
              <a:rPr b="0" lang="en-GB" sz="2200" spc="-1" strike="noStrike">
                <a:solidFill>
                  <a:srgbClr val="000000"/>
                </a:solidFill>
                <a:latin typeface="Times New Roman"/>
              </a:rPr>
              <a:t> Finally, </a:t>
            </a:r>
            <a:r>
              <a:rPr b="0" lang="en-US" sz="2200" spc="-1" strike="noStrike">
                <a:solidFill>
                  <a:srgbClr val="000000"/>
                </a:solidFill>
                <a:latin typeface="Times New Roman"/>
              </a:rPr>
              <a:t>u</a:t>
            </a:r>
            <a:r>
              <a:rPr b="0" lang="en-GB" sz="2200" spc="-1" strike="noStrike">
                <a:solidFill>
                  <a:srgbClr val="000000"/>
                </a:solidFill>
                <a:latin typeface="Times New Roman"/>
              </a:rPr>
              <a:t>pon its exit from the EU, and irrespective of the future EU-UK relationship, the UK will cease to be a member of the European Investment Bank (the </a:t>
            </a:r>
            <a:r>
              <a:rPr b="1" lang="en-GB" sz="2200" spc="-1" strike="noStrike">
                <a:solidFill>
                  <a:srgbClr val="000000"/>
                </a:solidFill>
                <a:latin typeface="Times New Roman"/>
              </a:rPr>
              <a:t>‘EIB’</a:t>
            </a:r>
            <a:r>
              <a:rPr b="0" lang="en-GB" sz="2200" spc="-1" strike="noStrike">
                <a:solidFill>
                  <a:srgbClr val="000000"/>
                </a:solidFill>
                <a:latin typeface="Times New Roman"/>
              </a:rPr>
              <a:t>) and arrangements will have to be made with regard to its share in the EIB’s subscribed capital and its paid-up capital.</a:t>
            </a:r>
            <a:r>
              <a:rPr b="0" lang="en-US" sz="2200" spc="-1" strike="noStrike">
                <a:solidFill>
                  <a:srgbClr val="000000"/>
                </a:solidFill>
                <a:latin typeface="Times New Roman"/>
              </a:rPr>
              <a:t> It</a:t>
            </a:r>
            <a:r>
              <a:rPr b="0" lang="en-GB" sz="2200" spc="-1" strike="noStrike">
                <a:solidFill>
                  <a:srgbClr val="000000"/>
                </a:solidFill>
                <a:latin typeface="Times New Roman"/>
              </a:rPr>
              <a:t> will also cease to participate in the governing bodies of the EIB and the relevant decision making-process will have to be amended accordingly.</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6E3B-DE96-4674-A3F7-27370118DE89}"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 Main conclusions</a:t>
            </a:r>
            <a:endParaRPr b="0" lang="en-US" sz="2400" spc="-1" strike="noStrike">
              <a:solidFill>
                <a:srgbClr val="000000"/>
              </a:solidFill>
              <a:latin typeface="Times New Roman"/>
            </a:endParaRPr>
          </a:p>
        </p:txBody>
      </p:sp>
      <p:sp>
        <p:nvSpPr>
          <p:cNvPr id="155" name=""/>
          <p:cNvSpPr txBox="1"/>
          <p:nvPr/>
        </p:nvSpPr>
        <p:spPr>
          <a:xfrm>
            <a:off x="157320" y="786960"/>
            <a:ext cx="8913600" cy="5954760"/>
          </a:xfrm>
          <a:prstGeom prst="rect">
            <a:avLst/>
          </a:prstGeom>
          <a:noFill/>
          <a:ln w="0">
            <a:noFill/>
          </a:ln>
        </p:spPr>
        <p:txBody>
          <a:bodyPr anchor="t">
            <a:normAutofit fontScale="99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a:t>
            </a:r>
            <a:r>
              <a:rPr b="0" lang="en-GB" sz="2200" spc="-1" strike="noStrike">
                <a:solidFill>
                  <a:srgbClr val="000000"/>
                </a:solidFill>
                <a:latin typeface="Times New Roman"/>
              </a:rPr>
              <a:t> The EU regulatory framework provides for a favourable regime in relation to trade in services within its territory, including financial services. More specifically, based on the principle of the EU single passport, a regulated financial firm having its head office in a Member State may establish branches and/or provide cross-border banking services in another EU Member State, provided that the home Member State’s competent authorities deem that the conditions laid down in EU law are fulfilled.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EU passport is one of the key benefits arising from EU single market access, which the UK would lose if it were to be granted third-country status. In such a case, UK </a:t>
            </a:r>
            <a:r>
              <a:rPr b="0" lang="en-US" sz="2200" spc="-1" strike="noStrike">
                <a:solidFill>
                  <a:srgbClr val="000000"/>
                </a:solidFill>
                <a:latin typeface="Times New Roman"/>
              </a:rPr>
              <a:t>financial firms intending to provide investment services in the EU will need to: </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ither choose to establish themselves through a subsidiary in a Member State and operate across the EU making use of the EU passport through this subsidiary, or </a:t>
            </a:r>
            <a:endParaRPr b="0" lang="en-US" sz="2200" spc="-1" strike="noStrike">
              <a:solidFill>
                <a:srgbClr val="000000"/>
              </a:solidFill>
              <a:latin typeface="Times New Roman"/>
            </a:endParaRPr>
          </a:p>
          <a:p>
            <a:pPr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ly with the different legislative framework of each Member State, given that the relevant legislation does not provide for the application of a uniform legislative framework</a:t>
            </a:r>
            <a:r>
              <a:rPr b="0" lang="en-GB" sz="2200" spc="-1" strike="noStrike">
                <a:solidFill>
                  <a:srgbClr val="000000"/>
                </a:solidFill>
                <a:latin typeface="Times New Roman"/>
              </a:rPr>
              <a:t> for third-country enterprise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0E77-79ED-495D-91AA-A2013AD24F7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5400" y="1764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 Main conclusions</a:t>
            </a:r>
            <a:endParaRPr b="0" lang="en-US" sz="2400" spc="-1" strike="noStrike">
              <a:solidFill>
                <a:srgbClr val="000000"/>
              </a:solidFill>
              <a:latin typeface="Times New Roman"/>
            </a:endParaRPr>
          </a:p>
        </p:txBody>
      </p:sp>
      <p:sp>
        <p:nvSpPr>
          <p:cNvPr id="158" name=""/>
          <p:cNvSpPr txBox="1"/>
          <p:nvPr/>
        </p:nvSpPr>
        <p:spPr>
          <a:xfrm>
            <a:off x="157320" y="786960"/>
            <a:ext cx="8913600" cy="59547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lang="en-US" sz="2200" spc="-1" strike="noStrike">
                <a:solidFill>
                  <a:srgbClr val="000000"/>
                </a:solidFill>
                <a:latin typeface="Times New Roman"/>
              </a:rPr>
              <a:t> A second main conclusion is that the participation of the UK government, the BoE and other UK administrative authorities in international organisations and international financial fora, which constitute the international institutional framework governing the financial system (see below</a:t>
            </a:r>
            <a:r>
              <a:rPr b="1" lang="en-GB" sz="2200" spc="-1" strike="noStrike">
                <a:solidFill>
                  <a:srgbClr val="000000"/>
                </a:solidFill>
                <a:latin typeface="Times New Roman"/>
              </a:rPr>
              <a:t> Table 2</a:t>
            </a:r>
            <a:r>
              <a:rPr b="0" lang="en-US" sz="2200" spc="-1" strike="noStrike">
                <a:solidFill>
                  <a:srgbClr val="000000"/>
                </a:solidFill>
                <a:latin typeface="Times New Roman"/>
              </a:rPr>
              <a:t>), is a guarantee that the UK financial system and UK financial law will continue both to influence and be influenced and shaped by international regulatory developments with regard to safeguarding financial stability and attaining other policy objectives concerning financial regulation, supervision and oversigh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ay prove a safe haven for the shaping of the future EU-UK relationship in financial services, to the extent that the financial system and the financial law of the (other) EU Member States are also influenced by these international regulatory developments (either directly as a result of their participation in the above-mentioned international organisations and financial fora or through the transposition of the (international) soft law elaborated by these international financial fora into EU law).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1648-DDCE-49AD-8366-ADA7A03E0D3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Θέση αριθμού διαφάνειας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9D8F-3E22-4680-9654-22ABC1A73DFF}"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graphicFrame>
        <p:nvGraphicFramePr>
          <p:cNvPr id="161" name=""/>
          <p:cNvGraphicFramePr/>
          <p:nvPr/>
        </p:nvGraphicFramePr>
        <p:xfrm>
          <a:off x="324000" y="189000"/>
          <a:ext cx="8569080" cy="6316560"/>
        </p:xfrm>
        <a:graphic>
          <a:graphicData uri="http://schemas.openxmlformats.org/drawingml/2006/table">
            <a:tbl>
              <a:tblPr/>
              <a:tblGrid>
                <a:gridCol w="1944360"/>
                <a:gridCol w="2100600"/>
                <a:gridCol w="4524120"/>
              </a:tblGrid>
              <a:tr h="936360">
                <a:tc gridSpan="3">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BLE 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mpact of alternative concepts for the future EU-UK relationship on UK financial firms</a:t>
                      </a:r>
                      <a:endParaRPr b="0" lang="en-US" sz="18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73400">
                <a:tc>
                  <a:txBody>
                    <a:bodyPr lIns="66960" rIns="669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oncept </a:t>
                      </a:r>
                      <a:endParaRPr b="0" lang="en-US" sz="18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Single passport </a:t>
                      </a:r>
                      <a:endParaRPr b="0" lang="en-US" sz="18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ther impact </a:t>
                      </a:r>
                      <a:endParaRPr b="0" lang="en-US" sz="18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253960">
                <a:tc>
                  <a:txBody>
                    <a:bodyPr lIns="66960" rIns="66960" tIns="0" bIns="0" anchor="t">
                      <a:noAutofit/>
                    </a:bodyPr>
                    <a:p>
                      <a:pP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pplication of the GATS</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Lack of access to the EU single market</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Restricted movement of services</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 The micro-prudential supervision, reorganisation and winding-up, as well as the resolution of branches of UK credit institutions in the Member States, and their participation in deposit guarantee schemes would be governed by the provisions of EU law applying to third-country credit institutions</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66960" rIns="66960" tIns="0" bIns="0" anchor="t">
                      <a:noAutofit/>
                    </a:bodyPr>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ateral agreements</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p>
                      <a:pPr algn="ctr">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Limited access to the EU single market (under  specific conditions and in specific sectors, including those on financial services, upon the agreement)</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otentially similar results as in the case of application of the GATS with regard to the regulatory aspects applying to UK credit institutions</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1036800">
                <a:tc>
                  <a:txBody>
                    <a:bodyPr lIns="66960" rIns="66960" tIns="0" bIns="0" anchor="t">
                      <a:noAutofit/>
                    </a:bodyPr>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EA membership</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pplication of EU legislation </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Access to the EU single market</a:t>
                      </a:r>
                      <a:endParaRPr b="0" lang="en-US" sz="1600" spc="-1" strike="noStrike">
                        <a:solidFill>
                          <a:srgbClr val="ffffff"/>
                        </a:solidFill>
                        <a:latin typeface="Times New Roman"/>
                      </a:endParaRPr>
                    </a:p>
                    <a:p>
                      <a:pPr algn="just">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56" name=""/>
          <p:cNvSpPr txBox="1"/>
          <p:nvPr/>
        </p:nvSpPr>
        <p:spPr>
          <a:xfrm>
            <a:off x="122040" y="836280"/>
            <a:ext cx="8713800" cy="5769000"/>
          </a:xfrm>
          <a:prstGeom prst="rect">
            <a:avLst/>
          </a:prstGeom>
          <a:noFill/>
          <a:ln w="0">
            <a:noFill/>
          </a:ln>
        </p:spPr>
        <p:txBody>
          <a:bodyPr anchor="t">
            <a:normAutofit fontScale="98000"/>
          </a:bodyPr>
          <a:p>
            <a:pPr marL="447840" indent="-447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overview </a:t>
            </a:r>
            <a:endParaRPr b="0" lang="en-US" sz="2400" spc="-1" strike="noStrike">
              <a:solidFill>
                <a:srgbClr val="000000"/>
              </a:solidFill>
              <a:latin typeface="Times New Roman"/>
            </a:endParaRPr>
          </a:p>
          <a:p>
            <a:pPr marL="447840" indent="-447840" algn="just">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200" spc="-1" strike="noStrike">
                <a:solidFill>
                  <a:srgbClr val="000000"/>
                </a:solidFill>
                <a:latin typeface="Times New Roman"/>
              </a:rPr>
              <a:t>1)</a:t>
            </a:r>
            <a:r>
              <a:rPr b="0" lang="en-US" sz="2200" spc="-1" strike="noStrike">
                <a:solidFill>
                  <a:srgbClr val="000000"/>
                </a:solidFill>
                <a:latin typeface="Times New Roman"/>
              </a:rPr>
              <a:t> The exit of the UK from the EU will definitively have implications for the financial system, the services provided therein and financial firms established both in the UK and in other EU Member States. The EU budget will also be affected, irrespective of the future EU-UK relationship, more importantly so if the concept to be adopted is not EEA membership (the latter would further entail the continuation of the UK’s contribution to the EU budget under the principle of proportionality). </a:t>
            </a:r>
            <a:endParaRPr b="0" lang="en-US" sz="2200" spc="-1" strike="noStrike">
              <a:solidFill>
                <a:srgbClr val="000000"/>
              </a:solidFill>
              <a:latin typeface="Times New Roman"/>
            </a:endParaRPr>
          </a:p>
          <a:p>
            <a:pPr marL="447840" indent="-44784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n aspect of primary importance for financial services is the continuation or discontinuation of UK financial firms’ right to have access, through branches and provision of services without (permanent) establishment, in the EU single market by virtue of the single passport under the different concepts which will govern the future EU-UK relationship</a:t>
            </a:r>
            <a:r>
              <a:rPr b="0" lang="en-US" sz="2200" spc="-1" strike="noStrike">
                <a:solidFill>
                  <a:srgbClr val="000000"/>
                </a:solidFill>
                <a:latin typeface="Times New Roman"/>
              </a:rPr>
              <a:t>. The same applies also to EU financial firms as to their activities in the UK financial marketplace. </a:t>
            </a:r>
            <a:endParaRPr b="0" lang="en-US" sz="2200" spc="-1" strike="noStrike">
              <a:solidFill>
                <a:srgbClr val="000000"/>
              </a:solidFill>
              <a:latin typeface="Times New Roman"/>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7840" indent="-447840" algn="just">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Θέση αριθμού διαφάνειας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BB60-3907-4C9D-B929-232AF7B88EC8}"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Θέση αριθμού διαφάνειας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B549-79B1-4971-96F9-6E7D79D130A8}"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graphicFrame>
        <p:nvGraphicFramePr>
          <p:cNvPr id="163" name=""/>
          <p:cNvGraphicFramePr/>
          <p:nvPr/>
        </p:nvGraphicFramePr>
        <p:xfrm>
          <a:off x="324000" y="189000"/>
          <a:ext cx="8569080" cy="6681600"/>
        </p:xfrm>
        <a:graphic>
          <a:graphicData uri="http://schemas.openxmlformats.org/drawingml/2006/table">
            <a:tbl>
              <a:tblPr/>
              <a:tblGrid>
                <a:gridCol w="2879640"/>
                <a:gridCol w="2881080"/>
                <a:gridCol w="2808360"/>
              </a:tblGrid>
              <a:tr h="549360">
                <a:tc gridSpan="3">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BLE 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K membership in international standard-setting bodies</a:t>
                      </a:r>
                      <a:endParaRPr b="0" lang="en-US" sz="1800" spc="-1" strike="noStrike">
                        <a:solidFill>
                          <a:srgbClr val="ffffff"/>
                        </a:solidFill>
                        <a:latin typeface="Times New Roman"/>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9560">
                <a:tc>
                  <a:txBody>
                    <a:bodyPr lIns="68760" rIns="687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orum </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bjective </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601"/>
                        </a:spcBef>
                        <a:spcAft>
                          <a:spcPts val="601"/>
                        </a:spcAft>
                        <a:tabLst>
                          <a:tab algn="l" pos="0"/>
                          <a:tab algn="l" pos="647640"/>
                          <a:tab algn="l" pos="900000"/>
                          <a:tab algn="l" pos="1133640"/>
                          <a:tab algn="l" pos="13460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UK membership </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ancial Stability Board (FSB)</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verall coordination</a:t>
                      </a:r>
                      <a:endParaRPr b="0" lang="en-US" sz="1600" spc="-1" strike="noStrike">
                        <a:solidFill>
                          <a:srgbClr val="ffffff"/>
                        </a:solidFill>
                        <a:latin typeface="Times New Roman"/>
                      </a:endParaRPr>
                    </a:p>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of financial fim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E, FCA and HM Treasury</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sel Committee on Banking Supervision (BCB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nking regulation and supervision</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A</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ernational Organisation of Securities Commissions (IOSCO)</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pital markets’ regulation and supervision</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CA</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tional Association of Insurance Supervisors (IAI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nce sector regulation and supervision</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 and FCA</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Forum</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tion and supervision of financial conglomerat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 and FCA</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e on Payments and Market Infrastructures (CPMI)</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sight of payments and market infrastructur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E</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Action Task Force on Money Laundering (FATF)</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ating money laundering and terrorist financing</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vernment</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tional Association of Deposit Insurers (IADI)</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 of deposit guarantee system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Services Compensation Scheme</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tional Federation of Accountants (IFAC)</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tional auditing standard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601"/>
                        </a:spcBef>
                        <a:spcAft>
                          <a:spcPts val="601"/>
                        </a:spcAft>
                        <a:tabLst>
                          <a:tab algn="l" pos="0"/>
                          <a:tab algn="l" pos="647640"/>
                          <a:tab algn="l" pos="900000"/>
                          <a:tab algn="l" pos="1133640"/>
                          <a:tab algn="l" pos="1511280"/>
                          <a:tab algn="l" pos="1871640"/>
                          <a:tab algn="l" pos="2266920"/>
                          <a:tab algn="l" pos="2627280"/>
                          <a:tab algn="l" pos="3024360"/>
                          <a:tab algn="l" pos="3419640"/>
                          <a:tab algn="l" pos="3780000"/>
                          <a:tab algn="l" pos="4175280"/>
                          <a:tab algn="l" pos="45356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Associations and Institut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59" name=""/>
          <p:cNvSpPr txBox="1"/>
          <p:nvPr/>
        </p:nvSpPr>
        <p:spPr>
          <a:xfrm>
            <a:off x="122040" y="836280"/>
            <a:ext cx="8713800" cy="5769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1 The position of UK financial firms in the EU</a:t>
            </a:r>
            <a:endParaRPr b="0" lang="en-US" sz="24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0" lang="en-US" sz="2200" spc="-1" strike="noStrike">
                <a:solidFill>
                  <a:srgbClr val="000000"/>
                </a:solidFill>
                <a:latin typeface="Times New Roman"/>
              </a:rPr>
              <a:t> If the UK were not to become a member of the EEA or to conclude any bilateral agreement for its participation in specific areas of the EU single market, it will have no access to the latter. Given that the UK is already a member of the WTO, applicable in this case would be the provisions of the GATS. </a:t>
            </a:r>
            <a:r>
              <a:rPr b="1" lang="en-US" sz="2200" spc="-1" strike="noStrike">
                <a:solidFill>
                  <a:srgbClr val="000000"/>
                </a:solidFill>
                <a:latin typeface="Times New Roman"/>
              </a:rPr>
              <a:t>The UK would be subject to the general obligation of the MFN clause and would have to negotiate a new Schedule on specific commitment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0" lang="en-US" sz="2200" spc="-1" strike="noStrike">
                <a:solidFill>
                  <a:srgbClr val="000000"/>
                </a:solidFill>
                <a:latin typeface="Times New Roman"/>
              </a:rPr>
              <a:t> EU Regulations would cease to apply from the date of the UK’s withdrawal from the EU. This is of particular importance to the extent that a significant part of EU financial law now consists of Regulations and the UK will have to legislate </a:t>
            </a:r>
            <a:r>
              <a:rPr b="0" i="1" lang="en-US" sz="2200" spc="-1" strike="noStrike">
                <a:solidFill>
                  <a:srgbClr val="000000"/>
                </a:solidFill>
                <a:latin typeface="Times New Roman"/>
              </a:rPr>
              <a:t>de novo</a:t>
            </a:r>
            <a:r>
              <a:rPr b="0" lang="en-US" sz="2200" spc="-1" strike="noStrike">
                <a:solidFill>
                  <a:srgbClr val="000000"/>
                </a:solidFill>
                <a:latin typeface="Times New Roman"/>
              </a:rPr>
              <a:t> on the subject-areas covered by these Regulations, if it decides to do so.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0" name="Θέση αριθμού διαφάνειας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DC77-DEAA-4097-8D0A-F53254840491}"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62" name=""/>
          <p:cNvSpPr txBox="1"/>
          <p:nvPr/>
        </p:nvSpPr>
        <p:spPr>
          <a:xfrm>
            <a:off x="122040" y="836280"/>
            <a:ext cx="8713800" cy="5769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1 The position of UK financial firms in the EU (cont.)</a:t>
            </a:r>
            <a:endParaRPr b="0" lang="en-US" sz="24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0" lang="en-US" sz="2200" spc="-1" strike="noStrike">
                <a:solidFill>
                  <a:srgbClr val="000000"/>
                </a:solidFill>
                <a:latin typeface="Times New Roman"/>
              </a:rPr>
              <a:t> New EU Directives would not be binding upon them either, while EU Directives which have already been transposed into UK law would continue to apply as domestic law upon the UK’s withdrawal from the EU, unless this national legislation would be repealed or amended (a very unlikely development in the case of legal acts reflecting international financial standards).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Θέση αριθμού διαφάνειας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B95B-3A94-4584-80FE-D9BFF987F535}"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65" name=""/>
          <p:cNvSpPr txBox="1"/>
          <p:nvPr/>
        </p:nvSpPr>
        <p:spPr>
          <a:xfrm>
            <a:off x="122040" y="836280"/>
            <a:ext cx="8713800" cy="5769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a:t>
            </a:r>
            <a:endParaRPr b="0" lang="en-US" sz="24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U right of establishment of branches and hence the principle of mutual recognition as applied to EU financial firms’ licenses (and all other related aspects)</a:t>
            </a:r>
            <a:r>
              <a:rPr b="0" lang="en-US" sz="2200" spc="-1" strike="noStrike" baseline="30000">
                <a:solidFill>
                  <a:srgbClr val="000000"/>
                </a:solidFill>
                <a:latin typeface="Times New Roman"/>
              </a:rPr>
              <a:t> </a:t>
            </a:r>
            <a:r>
              <a:rPr b="0" lang="en-US" sz="2200" spc="-1" strike="noStrike">
                <a:solidFill>
                  <a:srgbClr val="000000"/>
                </a:solidFill>
                <a:latin typeface="Times New Roman"/>
              </a:rPr>
              <a:t>would not be granted in this case. The operation of UK financial firms through branches would be governed by the provisions of EU financial law which apply to third-country financial firms, based on and compatible with the EU’s GATS Schedule on specific commitments in financial services. </a:t>
            </a:r>
            <a:endParaRPr b="0" lang="en-US" sz="22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Θέση αριθμού διαφάνειας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E7B5-8D90-4855-8649-2C910BEA3C88}"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68" name=""/>
          <p:cNvSpPr txBox="1"/>
          <p:nvPr/>
        </p:nvSpPr>
        <p:spPr>
          <a:xfrm>
            <a:off x="122400" y="836640"/>
            <a:ext cx="8913600" cy="602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redit institutions </a:t>
            </a: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a:t>
            </a:r>
            <a:r>
              <a:rPr b="0" lang="en-US" sz="2100" spc="-1" strike="noStrike">
                <a:solidFill>
                  <a:srgbClr val="000000"/>
                </a:solidFill>
                <a:latin typeface="Times New Roman"/>
              </a:rPr>
              <a:t> Taking as an example the case of </a:t>
            </a:r>
            <a:r>
              <a:rPr b="1" lang="en-US" sz="2100" spc="-1" strike="noStrike">
                <a:solidFill>
                  <a:srgbClr val="000000"/>
                </a:solidFill>
                <a:latin typeface="Times New Roman"/>
              </a:rPr>
              <a:t>credit institutions</a:t>
            </a:r>
            <a:r>
              <a:rPr b="0" lang="en-US" sz="2100" spc="-1" strike="noStrike">
                <a:solidFill>
                  <a:srgbClr val="000000"/>
                </a:solidFill>
                <a:latin typeface="Times New Roman"/>
              </a:rPr>
              <a:t>, if the UK would obtain the status of a third country and lose its favourable regime under the single passport, the establishment of branches of UK credit institutions in a Member State would be subject to the provisions of </a:t>
            </a:r>
            <a:r>
              <a:rPr b="1" lang="en-US" sz="2100" spc="-1" strike="noStrike">
                <a:solidFill>
                  <a:srgbClr val="000000"/>
                </a:solidFill>
                <a:latin typeface="Times New Roman"/>
              </a:rPr>
              <a:t>Article 47 CRD IV</a:t>
            </a:r>
            <a:r>
              <a:rPr b="0" lang="en-US" sz="2100" spc="-1" strike="noStrike">
                <a:solidFill>
                  <a:srgbClr val="000000"/>
                </a:solidFill>
                <a:latin typeface="Times New Roman"/>
              </a:rPr>
              <a:t>, pursuant to which Member States are not allowed to apply to branches of credit institutions having their head office in a third country, when commencing or continuing to carry out their business, provisions which result in more favourable treatment than that accorded to branches of EU credit institutions. </a:t>
            </a:r>
            <a:endParaRPr b="0" lang="en-US" sz="21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2)</a:t>
            </a:r>
            <a:r>
              <a:rPr b="0" lang="en-US" sz="2100" spc="-1" strike="noStrike">
                <a:solidFill>
                  <a:srgbClr val="000000"/>
                </a:solidFill>
                <a:latin typeface="Times New Roman"/>
              </a:rPr>
              <a:t> The EU may also conclude agreements with third countries providing for the application of provisions which accord to branches of credit institutions having their head office in a third country identical treatment throughout the EU. Without prejudice to the previous provision, the establishment and operation of branches of third-country credit institutions is authorised by the competent authorities of the (host) Member State under the provisions of its domestic law.</a:t>
            </a:r>
            <a:endParaRPr b="0" lang="en-US" sz="21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Θέση αριθμού διαφάνειας 5"/>
          <p:cNvSpPr/>
          <p:nvPr/>
        </p:nvSpPr>
        <p:spPr>
          <a:xfrm>
            <a:off x="69008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5053-A78D-4A87-9C78-9B681E8B7151}"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0" y="115920"/>
            <a:ext cx="9036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 </a:t>
            </a:r>
            <a:r>
              <a:rPr b="1" lang="en-US" sz="2400" spc="-1" strike="noStrike">
                <a:solidFill>
                  <a:srgbClr val="000000"/>
                </a:solidFill>
                <a:latin typeface="Times New Roman"/>
              </a:rPr>
              <a:t>Impact on the ‘passporting rights’ of financial firms</a:t>
            </a:r>
            <a:endParaRPr b="0" lang="en-US" sz="2400" spc="-1" strike="noStrike">
              <a:solidFill>
                <a:srgbClr val="000000"/>
              </a:solidFill>
              <a:latin typeface="Times New Roman"/>
            </a:endParaRPr>
          </a:p>
        </p:txBody>
      </p:sp>
      <p:sp>
        <p:nvSpPr>
          <p:cNvPr id="71" name=""/>
          <p:cNvSpPr txBox="1"/>
          <p:nvPr/>
        </p:nvSpPr>
        <p:spPr>
          <a:xfrm>
            <a:off x="167760" y="764640"/>
            <a:ext cx="8915400" cy="6093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pplication of the GA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2 The impact on branches (cont.)</a:t>
            </a:r>
            <a:endParaRPr b="0"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vestment firms </a:t>
            </a:r>
            <a:endParaRPr b="0" lang="en-US" sz="2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a:t>
            </a:r>
            <a:r>
              <a:rPr b="0" lang="en-US" sz="2200" spc="-1" strike="noStrike">
                <a:solidFill>
                  <a:srgbClr val="000000"/>
                </a:solidFill>
                <a:latin typeface="Times New Roman"/>
              </a:rPr>
              <a:t>Similar provisions would apply to the branches of UK </a:t>
            </a:r>
            <a:r>
              <a:rPr b="1" lang="en-US" sz="2200" spc="-1" strike="noStrike">
                <a:solidFill>
                  <a:srgbClr val="000000"/>
                </a:solidFill>
                <a:latin typeface="Times New Roman"/>
              </a:rPr>
              <a:t>investment firms </a:t>
            </a:r>
            <a:r>
              <a:rPr b="0" lang="en-US" sz="2200" spc="-1" strike="noStrike">
                <a:solidFill>
                  <a:srgbClr val="000000"/>
                </a:solidFill>
                <a:latin typeface="Times New Roman"/>
              </a:rPr>
              <a:t>in a Member State by virtue of </a:t>
            </a:r>
            <a:r>
              <a:rPr b="1" lang="en-US" sz="2200" spc="-1" strike="noStrike">
                <a:solidFill>
                  <a:srgbClr val="000000"/>
                </a:solidFill>
                <a:latin typeface="Times New Roman"/>
              </a:rPr>
              <a:t>MiFID II</a:t>
            </a:r>
            <a:r>
              <a:rPr b="0" lang="en-US" sz="2200" spc="-1" strike="noStrike">
                <a:solidFill>
                  <a:srgbClr val="000000"/>
                </a:solidFill>
                <a:latin typeface="Times New Roman"/>
              </a:rPr>
              <a:t>, since the provision of investment services and the performance of investment activities within the EU by investment firms and credit institutions is subject to a licensing requirement. </a:t>
            </a:r>
            <a:endParaRPr b="0" lang="en-US" sz="2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0" lang="en-US" sz="2200" spc="-1" strike="noStrike">
                <a:solidFill>
                  <a:srgbClr val="000000"/>
                </a:solidFill>
                <a:latin typeface="Times New Roman"/>
              </a:rPr>
              <a:t>MiFID II governs several aspects pertaining to the provision of investment services and the performance of investment activities in Member States (such as trading in securities and derivatives, executing customer orders and portfolio management). It provides credit institutions and investment firms with the right to provide their investment services and/or perform their investment activities across the EU through branches by virtue of the single license granted by their home Member State competent authorities. </a:t>
            </a: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2" name="Θέση αριθμού διαφάνειας 5"/>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8E67-1787-4904-8E2A-D92B9874DFE5}" type="slidenum">
              <a:rPr b="0" lang="el-GR" sz="1400" spc="-1" strike="noStrike">
                <a:solidFill>
                  <a:srgbClr val="000000"/>
                </a:solidFill>
                <a:latin typeface="Times New Roman"/>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19:48:40Z</dcterms:created>
  <dc:creator>EET</dc:creator>
  <dc:description/>
  <dc:language>en-US</dc:language>
  <cp:lastModifiedBy>Dimitra Koutsoukou</cp:lastModifiedBy>
  <cp:lastPrinted>2016-03-07T13:11:46Z</cp:lastPrinted>
  <dcterms:modified xsi:type="dcterms:W3CDTF">2018-09-06T11:25:36Z</dcterms:modified>
  <cp:revision>1914</cp:revision>
  <dc:subject/>
  <dc:title>Slide 1</dc:title>
</cp:coreProperties>
</file>